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1243-AD7B-4034-BFCD-9386CC0E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0828-18A4-47D2-9E23-F0876140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4B39-99B8-4485-AA32-FE16A3B7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D221-76D5-47FB-BD3C-B17729D7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DFD9-5796-4156-B7A6-07EA2213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3A90-8F7C-4F88-AB46-73AFE117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5B28-5822-4A07-88AD-1AC97316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521C-65EB-42C8-AB04-FCA7F63F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DE5B-92DF-4C91-A51E-ED8BA9FE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7615-FE11-4934-998A-49583207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EBE-B7E5-4FB1-84AB-65FB0588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BD8F-9055-4463-9222-29869456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2C7F-2FEB-4043-BE5D-B74C5C59C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533520" y="380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al Log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cture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457200" y="6019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Genesere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Autumn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4600-6178-4E77-BAED-B49E8456C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lity Axi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822240" y="974880"/>
            <a:ext cx="7635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.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5D72-364B-4018-9222-7D5AEF425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lity Axioms in Rule 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27"/>
          <p:cNvSpPr/>
          <p:nvPr/>
        </p:nvSpPr>
        <p:spPr>
          <a:xfrm>
            <a:off x="822240" y="974880"/>
            <a:ext cx="7635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742C-4584-4937-8A0E-313184A64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lity Pro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1029"/>
              <p:cNvSpPr txBox="1"/>
              <p:nvPr/>
            </p:nvSpPr>
            <p:spPr>
              <a:xfrm>
                <a:off x="1790640" y="984240"/>
                <a:ext cx="5208480" cy="519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c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lity</m:t>
                          </m:r>
                        </m:e>
                      </m:mr>
                      <m:mr>
                        <m:e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yÜy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lity</m:t>
                          </m:r>
                        </m:e>
                      </m:mr>
                      <m:mr>
                        <m:e>
                          <m:r>
                            <m:t xml:space="preserve">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zÜx</m:t>
                          </m:r>
                          <m:r>
                            <m:t xml:space="preserve">=</m:t>
                          </m:r>
                          <m:r>
                            <m:t xml:space="preserve">yÙy</m:t>
                          </m:r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lity</m:t>
                          </m:r>
                        </m:e>
                      </m:mr>
                      <m:mr>
                        <m:e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c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Goal</m:t>
                          </m:r>
                        </m:e>
                      </m:mr>
                      <m:mr>
                        <m:e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yÙy</m:t>
                          </m:r>
                          <m:r>
                            <m:t xml:space="preserve">=</m:t>
                          </m:r>
                          <m:r>
                            <m:t xml:space="preserve">c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5,6</m:t>
                          </m:r>
                        </m:e>
                      </m:mr>
                      <m:mr>
                        <m:e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aÙy</m:t>
                          </m:r>
                          <m:r>
                            <m:t xml:space="preserve">=</m:t>
                          </m:r>
                          <m:r>
                            <m:t xml:space="preserve">c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4,7</m:t>
                          </m:r>
                        </m:e>
                      </m:mr>
                      <m:mr>
                        <m:e>
                          <m:r>
                            <m:t xml:space="preserve">9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c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1,8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?</m:t>
                          </m:r>
                        </m:e>
                        <m:e>
                          <m:r>
                            <m:t xml:space="preserve">2,9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69FD-8AA3-442C-80BF-60FB6D8D2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lity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40"/>
              <p:cNvSpPr txBox="1"/>
              <p:nvPr/>
            </p:nvSpPr>
            <p:spPr>
              <a:xfrm>
                <a:off x="768240" y="984240"/>
                <a:ext cx="7253280" cy="519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b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lity</m:t>
                          </m:r>
                        </m:e>
                      </m:mr>
                      <m:mr>
                        <m:e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yÜy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lity</m:t>
                          </m:r>
                        </m:e>
                      </m:mr>
                      <m:mr>
                        <m:e>
                          <m:r>
                            <m:t xml:space="preserve">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zÜx</m:t>
                          </m:r>
                          <m:r>
                            <m:t xml:space="preserve">=</m:t>
                          </m:r>
                          <m:r>
                            <m:t xml:space="preserve">yÙy</m:t>
                          </m:r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lity</m:t>
                          </m:r>
                        </m:e>
                      </m:mr>
                      <m:mr>
                        <m:e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Goal</m:t>
                          </m:r>
                        </m:e>
                      </m:mr>
                      <m:mr>
                        <m:e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4,6</m:t>
                          </m:r>
                        </m:e>
                      </m:mr>
                      <m:mr>
                        <m:e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yÙy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5,6</m:t>
                          </m:r>
                        </m:e>
                      </m:mr>
                      <m:mr>
                        <m:e>
                          <m:r>
                            <m:t xml:space="preserve">9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wÙw</m:t>
                          </m:r>
                          <m:r>
                            <m:t xml:space="preserve">=</m:t>
                          </m:r>
                          <m:r>
                            <m:t xml:space="preserve">yÙy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5,8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vÙv</m:t>
                          </m:r>
                          <m:r>
                            <m:t xml:space="preserve">=</m:t>
                          </m:r>
                          <m:r>
                            <m:t xml:space="preserve">wÙw</m:t>
                          </m:r>
                          <m:r>
                            <m:t xml:space="preserve">=</m:t>
                          </m:r>
                          <m:r>
                            <m:t xml:space="preserve">yÙy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5,9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B437-ED95-499F-B37C-8DB24B4B8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att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85800" y="1143000"/>
            <a:ext cx="7924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ri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: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ri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: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791E-5E97-4462-A124-009904AC3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of With Flatt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5"/>
              <p:cNvSpPr txBox="1"/>
              <p:nvPr/>
            </p:nvSpPr>
            <p:spPr>
              <a:xfrm>
                <a:off x="1549440" y="1517760"/>
                <a:ext cx="5691240" cy="41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b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lity</m:t>
                          </m:r>
                        </m:e>
                      </m:mr>
                      <m:mr>
                        <m:e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yÜy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lity</m:t>
                          </m:r>
                        </m:e>
                      </m:mr>
                      <m:mr>
                        <m:e>
                          <m:r>
                            <m:t xml:space="preserve">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zÜx</m:t>
                          </m:r>
                          <m:r>
                            <m:t xml:space="preserve">=</m:t>
                          </m:r>
                          <m:r>
                            <m:t xml:space="preserve">yÙy</m:t>
                          </m:r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lity</m:t>
                          </m:r>
                        </m:e>
                      </m:mr>
                      <m:mr>
                        <m:e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xÙ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?</m:t>
                          </m:r>
                        </m:e>
                      </m:mr>
                      <m:mr>
                        <m:e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1,6</m:t>
                          </m:r>
                        </m:e>
                      </m:mr>
                      <m:mr>
                        <m:e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?</m:t>
                          </m:r>
                        </m:e>
                        <m:e>
                          <m:r>
                            <m:t xml:space="preserve">2,7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1047-5C2D-4975-B6EA-329CDFCFE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stitution Axi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85800" y="1143000"/>
            <a:ext cx="792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attening Ru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ion Axi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0D69-DC4D-42AB-A4CA-247CAA465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of With Substitution Axi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984240" y="984240"/>
                <a:ext cx="6821640" cy="519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b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lity</m:t>
                          </m:r>
                        </m:e>
                      </m:mr>
                      <m:mr>
                        <m:e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yÜy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lity</m:t>
                          </m:r>
                        </m:e>
                      </m:mr>
                      <m:mr>
                        <m:e>
                          <m:r>
                            <m:t xml:space="preserve">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zÜx</m:t>
                          </m:r>
                          <m:r>
                            <m:t xml:space="preserve">=</m:t>
                          </m:r>
                          <m:r>
                            <m:t xml:space="preserve">yÙy</m:t>
                          </m:r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lity</m:t>
                          </m:r>
                        </m:e>
                      </m:mr>
                      <m:mr>
                        <m:e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zÜx</m:t>
                          </m:r>
                          <m:r>
                            <m:t xml:space="preserve">=</m:t>
                          </m:r>
                          <m:r>
                            <m:t xml:space="preserve">yÙf</m:t>
                          </m:r>
                          <m:r>
                            <m:t xml:space="preserve">(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Substitution</m:t>
                          </m:r>
                        </m:e>
                      </m:mr>
                      <m:mr>
                        <m:e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Goal</m:t>
                          </m:r>
                        </m:e>
                      </m:mr>
                      <m:mr>
                        <m:e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yÙf</m:t>
                          </m:r>
                          <m:r>
                            <m:t xml:space="preserve">(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6,7</m:t>
                          </m:r>
                        </m:e>
                      </m:mr>
                      <m:mr>
                        <m:e>
                          <m:r>
                            <m:t xml:space="preserve">9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1,8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?</m:t>
                          </m:r>
                        </m:e>
                        <m:e>
                          <m:r>
                            <m:t xml:space="preserve">2,9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E920-95E9-4B7E-9F7C-6A9B30756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85800" y="1143000"/>
            <a:ext cx="7924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ion axioms for relation constants t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ion axioms for multiple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one substitution for each function and relation con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4AF9-9F7B-4F15-9A41-D9D075E75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wo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8"/>
          <p:cNvSpPr/>
          <p:nvPr/>
        </p:nvSpPr>
        <p:spPr>
          <a:xfrm>
            <a:off x="685800" y="1066680"/>
            <a:ext cx="78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xiomatic approach -- add axioms of e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Theoretic approach -- add new rules of i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81ED-3427-47E1-8E35-D3A9633DF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referenti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85800" y="1219320"/>
            <a:ext cx="7896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terms can sometimes refer to the same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+2         2*2         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ome situations, we want to say explicitly that two terms are coreferential; and, in some situations, we want to say explicitly that two terms are not coreferential.  For this, we use equ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+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*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+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*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referenti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7B7E-9533-48B1-B094-860A230A9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vation for Demod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2825640" y="2705040"/>
                <a:ext cx="349272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d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e</m:t>
                          </m:r>
                        </m:e>
                      </m:mr>
                      <m:m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e</m:t>
                          </m:r>
                          <m:r>
                            <m:t xml:space="preserve">,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e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d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C781-E8F9-4A89-9BB1-DCAC29ED4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mod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3206880" y="2355840"/>
                <a:ext cx="2730240" cy="21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¬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]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where </m:t>
                          </m:r>
                          <m:r>
                            <m:t xml:space="preserve">t</m:t>
                          </m:r>
                          <m:r>
                            <m:rPr>
                              <m:lit/>
                              <m:nor/>
                            </m:rPr>
                            <m:t xml:space="preserve"> occurs in 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where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02A0-59B8-4595-B51B-833F707F2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5"/>
              <p:cNvSpPr txBox="1"/>
              <p:nvPr/>
            </p:nvSpPr>
            <p:spPr>
              <a:xfrm>
                <a:off x="2952720" y="1492200"/>
                <a:ext cx="34923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d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e</m:t>
                          </m:r>
                        </m:e>
                      </m:mr>
                      <m:m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e</m:t>
                          </m:r>
                          <m:r>
                            <m:t xml:space="preserve">,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e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d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6"/>
              <p:cNvSpPr txBox="1"/>
              <p:nvPr/>
            </p:nvSpPr>
            <p:spPr>
              <a:xfrm>
                <a:off x="2952720" y="3930480"/>
                <a:ext cx="34923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d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d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4D76-2BAB-4007-92B4-8F006612E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-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3200400" y="1828800"/>
                <a:ext cx="312408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yÜp</m:t>
                          </m:r>
                          <m:r>
                            <m:t xml:space="preserve">(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  <m:r>
                            <m:t xml:space="preserve">Üp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5"/>
              <p:cNvSpPr txBox="1"/>
              <p:nvPr/>
            </p:nvSpPr>
            <p:spPr>
              <a:xfrm>
                <a:off x="3733920" y="4114800"/>
                <a:ext cx="199368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14" name="Text Box 6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 Equations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609480" y="35053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Substituted in Equation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CAA0-477C-4A82-9E7C-510ECAC9D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ent Dele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5105520" y="1828800"/>
                <a:ext cx="2958840" cy="396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mr>
                      <m:mr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1,1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1,1,1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1,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1,1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9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1,1,1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19" name="Text Box 6"/>
          <p:cNvSpPr/>
          <p:nvPr/>
        </p:nvSpPr>
        <p:spPr>
          <a:xfrm>
            <a:off x="685800" y="11430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Demodulation, parent is usually deleted after substit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0807-9A8F-442B-AFF9-1CB991178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of With Demod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2394000" y="2050920"/>
                <a:ext cx="4000320" cy="30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b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lity</m:t>
                          </m:r>
                        </m:e>
                      </m:mr>
                      <m:mr>
                        <m:e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Goal</m:t>
                          </m:r>
                        </m:e>
                      </m:mr>
                      <m:mr>
                        <m:e>
                          <m:r>
                            <m:t xml:space="preserve">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,4</m:t>
                          </m:r>
                        </m:e>
                      </m:mr>
                      <m:mr>
                        <m:e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?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,5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A751-DC91-4556-9245-0F04DFE1B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of With Demod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2235240" y="819000"/>
                <a:ext cx="4280040" cy="579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t xml:space="preserve">∗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lity</m:t>
                          </m:r>
                        </m:e>
                      </m:mr>
                      <m:mr>
                        <m:e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arithmetic</m:t>
                          </m:r>
                          <m:r>
                            <m:rPr>
                              <m:lit/>
                              <m:nor/>
                            </m:rPr>
                            <m:t xml:space="preserve">axioms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Goal</m:t>
                          </m:r>
                        </m:e>
                      </m:mr>
                      <m:mr>
                        <m:e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t xml:space="preserve">∗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,5</m:t>
                          </m:r>
                        </m:e>
                      </m:mr>
                      <m:mr>
                        <m:e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t xml:space="preserve">∗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4,6</m:t>
                          </m:r>
                        </m:e>
                      </m:mr>
                      <m:mr>
                        <m:e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t xml:space="preserve">∗</m:t>
                          </m:r>
                          <m:r>
                            <m:t xml:space="preserve">2</m:t>
                          </m:r>
                          <m:r>
                            <m:t xml:space="preserve">∗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2,7</m:t>
                          </m:r>
                        </m:e>
                      </m:mr>
                      <m:mr>
                        <m:e>
                          <m:r>
                            <m:t xml:space="preserve">9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t xml:space="preserve">∗</m:t>
                          </m:r>
                          <m:r>
                            <m:t xml:space="preserve">2</m:t>
                          </m:r>
                          <m:r>
                            <m:t xml:space="preserve">∗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4,8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t xml:space="preserve">∗</m:t>
                          </m:r>
                          <m:r>
                            <m:t xml:space="preserve">2</m:t>
                          </m:r>
                          <m:r>
                            <m:t xml:space="preserve">∗</m:t>
                          </m:r>
                          <m:r>
                            <m:t xml:space="preserve">1</m:t>
                          </m:r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1,9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t xml:space="preserve">∗</m:t>
                          </m:r>
                          <m:r>
                            <m:t xml:space="preserve">2</m:t>
                          </m:r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4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6</m:t>
                          </m:r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4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?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6D5E-EE2E-43DD-9A5C-F5A4AC00F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of With Demod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685800" y="114300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Bill is Joe's paternal grandfather and suppose that Bill is kind.  Prove that Joe's paternal grandfather is k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2057400" y="2438280"/>
                <a:ext cx="4584600" cy="359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gf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joe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bill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pg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kind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bill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kind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joe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Goal</m:t>
                          </m:r>
                        </m:e>
                      </m:mr>
                      <m:mr>
                        <m:e>
                          <m:r>
                            <m:t xml:space="preserve">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kind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pgf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joe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,4</m:t>
                          </m:r>
                        </m:e>
                      </m:mr>
                      <m:mr>
                        <m:e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kind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bill</m:t>
                          </m:r>
                          <m:r>
                            <m:t xml:space="preserve">)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,5</m:t>
                          </m:r>
                        </m:e>
                      </m:mr>
                      <m:mr>
                        <m:e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?</m:t>
                          </m:r>
                        </m:e>
                        <m:e>
                          <m:r>
                            <m:t xml:space="preserve">3,6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2C7C-CC54-4EE8-BD67-2F256240C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lems With Demod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685800" y="1219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bind variables in expres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5"/>
              <p:cNvSpPr txBox="1"/>
              <p:nvPr/>
            </p:nvSpPr>
            <p:spPr>
              <a:xfrm>
                <a:off x="2933640" y="2000160"/>
                <a:ext cx="29973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father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pa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quincy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lder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father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lder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uincy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pat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34" name="Text Box 6"/>
          <p:cNvSpPr/>
          <p:nvPr/>
        </p:nvSpPr>
        <p:spPr>
          <a:xfrm>
            <a:off x="762120" y="3809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tion must be a unit cl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7"/>
              <p:cNvSpPr txBox="1"/>
              <p:nvPr/>
            </p:nvSpPr>
            <p:spPr>
              <a:xfrm>
                <a:off x="1523880" y="4464000"/>
                <a:ext cx="59454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father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yÜx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pat</m:t>
                          </m:r>
                          <m:r>
                            <m:t xml:space="preserve">Ùy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quincy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lder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father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lder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uincy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pat</m:t>
                          </m:r>
                          <m:r>
                            <m:t xml:space="preserve">)</m:t>
                          </m:r>
                          <m:r>
                            <m:t xml:space="preserve">Üx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pat</m:t>
                          </m:r>
                          <m:r>
                            <m:t xml:space="preserve">Ùy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quincy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143D-D1C1-4853-AFBD-0C5E5A2B2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amod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2444760" y="2095560"/>
                <a:ext cx="4813200" cy="25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s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¬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]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where </m:t>
                          </m:r>
                          <m:r>
                            <m:t xml:space="preserve">t</m:t>
                          </m:r>
                          <m:r>
                            <m:rPr>
                              <m:lit/>
                              <m:nor/>
                            </m:rPr>
                            <m:t xml:space="preserve"> occurs in 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where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3DC3-E54B-49AF-A563-171959987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5800" y="1143000"/>
            <a:ext cx="7924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quatio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rue in an interpret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and only if the terms in the equation refer to the same object in the universe of discou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4234-45CE-4D23-85D7-39EC19A71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85800" y="1143000"/>
            <a:ext cx="7896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Demodulation requires a unit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Demodulation binds variables in equation o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 Demodulation deletes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450E-3FBB-40B6-A753-8027A5116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4"/>
              <p:cNvSpPr txBox="1"/>
              <p:nvPr/>
            </p:nvSpPr>
            <p:spPr>
              <a:xfrm>
                <a:off x="3276720" y="2558880"/>
                <a:ext cx="283212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q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</m:mr>
                      <m:mr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,</m:t>
                              </m:r>
                              <m:r>
                                <m:t xml:space="preserve">y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t xml:space="preserve">y</m:t>
                              </m:r>
                              <m:r>
                                <m:t xml:space="preserve">,</m:t>
                              </m:r>
                              <m:r>
                                <m:t xml:space="preserve">r</m:t>
                              </m:r>
                              <m:r>
                                <m:t xml:space="preserve">(</m:t>
                              </m:r>
                              <m:r>
                                <m:t xml:space="preserve">y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</m:mr>
                      <m:mr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b</m:t>
                              </m:r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q</m:t>
                              </m:r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r</m:t>
                              </m:r>
                              <m:r>
                                <m:t xml:space="preserve">(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CD08-CF2B-42A7-81FC-CB0F93A7C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of With Paramod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1924200" y="2165400"/>
                <a:ext cx="5398920" cy="25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ather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at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quincy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lder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father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Ø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lder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quincy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at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Goal</m:t>
                          </m:r>
                        </m:e>
                      </m:mr>
                      <m:mr>
                        <m:e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lder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quincy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at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e>
                          <m:r>
                            <m:t xml:space="preserve">1,2</m:t>
                          </m:r>
                        </m:e>
                      </m:mr>
                      <m:mr>
                        <m:e>
                          <m:r>
                            <m:t xml:space="preserve">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d>
                            <m:dPr>
                              <m:begChr m:val="{"/>
                              <m:endChr m:val="}"/>
                            </m:dPr>
                          </m:d>
                        </m:e>
                        <m:e>
                          <m:r>
                            <m:t xml:space="preserve">3,4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70F3-AB38-4A53-96D5-1B8D30F46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of With Paramod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5"/>
              <p:cNvSpPr txBox="1"/>
              <p:nvPr/>
            </p:nvSpPr>
            <p:spPr>
              <a:xfrm>
                <a:off x="2355840" y="1136520"/>
                <a:ext cx="4762440" cy="412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=</m:t>
                              </m:r>
                              <m:r>
                                <m:t xml:space="preserve">c</m:t>
                              </m:r>
                              <m:r>
                                <m:t xml:space="preserve">,</m:t>
                              </m:r>
                              <m:r>
                                <m:t xml:space="preserve">b</m:t>
                              </m:r>
                              <m:r>
                                <m:t xml:space="preserve">=</m:t>
                              </m:r>
                              <m:r>
                                <m:t xml:space="preserve">c</m:t>
                              </m:r>
                            </m:e>
                          </m:d>
                        </m:e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cÚb</m:t>
                          </m:r>
                          <m:r>
                            <m:t xml:space="preserve">=</m:t>
                          </m:r>
                          <m:r>
                            <m:t xml:space="preserve">c</m:t>
                          </m:r>
                        </m:e>
                      </m:mr>
                      <m:mr>
                        <m:e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Øp</m:t>
                              </m:r>
                              <m:r>
                                <m:t xml:space="preserve">(</m:t>
                              </m:r>
                              <m:r>
                                <m:t xml:space="preserve">c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Goal</m:t>
                          </m:r>
                        </m:e>
                      </m:mr>
                      <m:mr>
                        <m:e>
                          <m:r>
                            <m:t xml:space="preserve">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Øp</m:t>
                              </m:r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b</m:t>
                              </m:r>
                              <m:r>
                                <m:t xml:space="preserve">=</m:t>
                              </m:r>
                              <m:r>
                                <m:t xml:space="preserve">c</m:t>
                              </m:r>
                            </m:e>
                          </m:d>
                        </m:e>
                        <m:e>
                          <m:r>
                            <m:t xml:space="preserve">3,4</m:t>
                          </m:r>
                        </m:e>
                      </m:mr>
                      <m:mr>
                        <m:e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Øp</m:t>
                              </m:r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Øp</m:t>
                              </m:r>
                              <m:r>
                                <m:t xml:space="preserve">(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e>
                          <m:r>
                            <m:t xml:space="preserve">4,5</m:t>
                          </m:r>
                        </m:e>
                      </m:mr>
                      <m:mr>
                        <m:e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Øp</m:t>
                              </m:r>
                              <m:r>
                                <m:t xml:space="preserve">(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e>
                          <m:r>
                            <m:t xml:space="preserve">1,6</m:t>
                          </m:r>
                        </m:e>
                      </m:mr>
                      <m:mr>
                        <m:e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d>
                            <m:dPr>
                              <m:begChr m:val="{"/>
                              <m:endChr m:val="}"/>
                            </m:dPr>
                          </m:d>
                        </m:e>
                        <m:e>
                          <m:r>
                            <m:t xml:space="preserve">2,7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E79E-4EE2-47A0-9956-EA2A5D9EE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5800" y="1143000"/>
            <a:ext cx="792468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m: Resolution and Paramodulation (together with the reflexivity axiom) are refutation complete for all of Relational Logic*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including e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B688-B99C-4EE4-AE70-402EAC24E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88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685800" y="1104840"/>
            <a:ext cx="7924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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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i(r) = 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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Satisfied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= f(b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= f(f(a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= f(a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=f(f(c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a = c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= f(c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=f(f(b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= f(b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=f(f(a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c=f(f(c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27BC-8341-40E7-B4A8-A06CF893D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ique Names Assum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685800" y="1143000"/>
            <a:ext cx="7924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In many applications, one makes the assumption that every distinct name refers to a distinct object, i.e. every object has at most one name.  This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unique names assumption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 (UNA).  The upshot is that a difference in name implies a difference in re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d only i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nique names assumption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 in general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: How does one express the unique names assumption in Relational Log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619F-0612-44DC-AF37-780289A04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main Closure Assum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85800" y="1143000"/>
            <a:ext cx="792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In many applications, one makes the assumption that all objects are named, i.e. every object has at least one name.  This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domain closure assumption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 (DC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omain closure assumption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 in general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: How does one express the domain closure assumption in Relational Log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0BBD-C266-4581-A3BB-536517098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rbr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14400" y="1143000"/>
            <a:ext cx="7391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rbrand Theorem does not hold in the presence of equality.  In general, different consta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fer to the same object. In  a Herbrand interpretation, every constant refers to itself.  Thus, the following sentence is satisfiable, but there is no Herbrand interpretation that satisfies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ohn=j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: Does the Herbrand theorem hold in the presence of the unique names assump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669C-D88C-4578-9BDC-82B3CAEC3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omplete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27"/>
          <p:cNvSpPr/>
          <p:nvPr/>
        </p:nvSpPr>
        <p:spPr>
          <a:xfrm>
            <a:off x="990720" y="1066680"/>
            <a:ext cx="7315200" cy="3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m: Resolution (with factoring) is refutation complete for Relational Logic*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without equal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m: There is a set of premis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conclus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volving equality) such 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gically impli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not be proved fro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ing Re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028"/>
              <p:cNvSpPr txBox="1"/>
              <p:nvPr/>
            </p:nvSpPr>
            <p:spPr>
              <a:xfrm>
                <a:off x="3200400" y="4572000"/>
                <a:ext cx="256536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c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c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Goal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4833-F55B-49EB-B7F6-66180897C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wo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85800" y="1066680"/>
            <a:ext cx="78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xiomatic approach -- add axioms of e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Theoretic approach -- add new rules of i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8:08Z</dcterms:created>
  <dc:creator>Michael Genesereth</dc:creator>
  <dc:description/>
  <dc:language>en-US</dc:language>
  <cp:lastModifiedBy>Tanel</cp:lastModifiedBy>
  <cp:lastPrinted>2007-11-12T19:28:00Z</cp:lastPrinted>
  <dcterms:modified xsi:type="dcterms:W3CDTF">2013-02-25T13:57:51Z</dcterms:modified>
  <cp:revision>276</cp:revision>
  <dc:subject/>
  <dc:title>Introduction</dc:title>
</cp:coreProperties>
</file>